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77CD-376C-4DE4-AC61-12889BFF6F0C}" type="datetime">
              <a:rPr b="0" lang="es-ES_tradnl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63FD-EA10-49E9-A3F8-9BA44F82E21A}" type="datetime">
              <a:rPr b="0" lang="es-ES_tradnl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81B0-2C77-49BC-9B16-6CB38599A619}" type="datetime">
              <a:rPr b="0" lang="es-ES_tradnl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846F-D1FA-418F-B4BE-2FD7B83CC2CA}" type="datetime">
              <a:rPr b="0" lang="es-ES_tradnl" sz="1400" spc="-1" strike="noStrike">
                <a:solidFill>
                  <a:srgbClr val="dde9ec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DAEE-CA82-40F8-829C-AFA35D076D17}" type="datetime">
              <a:rPr b="0" lang="es-ES_tradnl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2971440"/>
            <a:ext cx="7858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dde9ec"/>
                </a:solidFill>
                <a:latin typeface="Arial Narrow"/>
              </a:rPr>
              <a:t>Encuesta de estratificación social</a:t>
            </a:r>
            <a:br>
              <a:rPr sz="2500"/>
            </a:br>
            <a:r>
              <a:rPr b="1" lang="es-ES" sz="2500" spc="-1" strike="noStrike">
                <a:solidFill>
                  <a:srgbClr val="dde9ec"/>
                </a:solidFill>
                <a:latin typeface="Bookman Old Style"/>
              </a:rPr>
              <a:t> </a:t>
            </a:r>
            <a:r>
              <a:rPr b="1" lang="es-ES" sz="2500" spc="-1" strike="noStrike">
                <a:solidFill>
                  <a:srgbClr val="dde9ec"/>
                </a:solidFill>
                <a:latin typeface="Arial Narrow"/>
              </a:rPr>
              <a:t>Algunos resultados para el país</a:t>
            </a:r>
            <a:br>
              <a:rPr sz="2500"/>
            </a:br>
            <a:r>
              <a:rPr b="1" lang="es-ES" sz="2500" spc="-1" strike="noStrike">
                <a:solidFill>
                  <a:srgbClr val="dde9ec"/>
                </a:solidFill>
                <a:latin typeface="Arial Narrow"/>
              </a:rPr>
              <a:t>y las regiones de O´Higgins y Maule</a:t>
            </a:r>
            <a:r>
              <a:rPr b="0" lang="es-ES" sz="2500" spc="-1" strike="noStrike">
                <a:solidFill>
                  <a:srgbClr val="dde9ec"/>
                </a:solidFill>
                <a:latin typeface="Bookman Old Style"/>
              </a:rPr>
              <a:t> </a:t>
            </a:r>
            <a:endParaRPr b="0" lang="en-US" sz="2500" spc="-1" strike="noStrike">
              <a:solidFill>
                <a:srgbClr val="dde9ec"/>
              </a:solidFill>
              <a:latin typeface="Bookman Old Style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481800" cy="2368440"/>
          </a:xfrm>
          <a:prstGeom prst="rect">
            <a:avLst/>
          </a:prstGeom>
          <a:ln w="0">
            <a:noFill/>
          </a:ln>
        </p:spPr>
      </p:pic>
      <p:sp>
        <p:nvSpPr>
          <p:cNvPr id="203" name="1 Título"/>
          <p:cNvSpPr/>
          <p:nvPr/>
        </p:nvSpPr>
        <p:spPr>
          <a:xfrm>
            <a:off x="971640" y="4365720"/>
            <a:ext cx="7286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dde9ec"/>
                </a:solidFill>
                <a:latin typeface="Bookman Old Style"/>
              </a:rPr>
              <a:t>Seminarios </a:t>
            </a: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Macrozonales SUB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Talca, 23 de octubr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Facundo Sepúlveda – Proyecto desigual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dde9e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La metodología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Hacemos una regresión de la decisión de migrar (1/0) sobre los factores individuales y de carácter público ya descritos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Nos fijamos en que factores ayudan a explicar las diferencias en la decisión de migrar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Usamos la regresión para aislar la contribución de cada uno de los factores que son significativos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Las variables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Desempleo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=1 si está desempleado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ducación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años de escolaridad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dad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xp_región  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“En su opinión, en 5 años más ¿esta 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región estará mejor, igual, o peor que 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hoy? (1 a 7)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Las variables…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valuación individual de las instituciones públicas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Calidad_admin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val. del Gobierno regional, la 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Gobernación, y el Municipio de 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la comuna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Calidad_salud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val. de los consultorios y 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hospitales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Calidad_educ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val. de las escuelas y liceos 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municipales de la comuna 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Calidad_vivienda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val. del SERVIU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Que variables ayudan a explicar las diferencias en deseos de migrar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   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Variable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Coeficiente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ducación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 0,009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dad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-0,002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Calidad_admin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-0,028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Calidad_salud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-0,022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dde9e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Aquí nos vamos a enfocar en los resultados de dos secciones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Gill Sans MT"/>
              </a:rPr>
              <a:t>SECCIÓN 1: IDENTIFICACIÓN SOCIAL Y TERRITORIAL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Gill Sans MT"/>
              </a:rPr>
              <a:t>SECCIÓN 6: MOVILIDAD SOCIAL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n resumen, la menor incidencia en las ganas de irse de estas regiones se debe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A que la escolaridad promedio es menor que en el resto del país, y quienes tienen mayor tendencia a migrar son los individuos con mas educación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Para la sexta región, la calidad de la salud pública motiva a los habitantes a quedarse. Para la séptima región el efecto es opuesto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Ni la calidad de la administración pública ni la edad de los habitantes parecen jugar un rol importante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Movilidad intergeneracional en escolaridad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n la encuesta levantamos información sobre la escolaridad de quien responde y del jefe de hogar a los 14 años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Nos interesa conocer con que probabilidad observamos la transición entre distintos niveles de educación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Niveles de educación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Menos que básica completa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Básica y menos que media completa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Media  y menos que universitaria completa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ducación universitaria completa y mas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Resultados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Para hijos de padres sin educ. básica completa, la prob.  de tener educ. básica o más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Región VI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87%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Región VII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75%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Resto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75%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Para los hijos de padres con básica completa, la probabilidad de tener educación media o más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Región VI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31%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Región VII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35%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Resto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29%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Para los hijos de padres con educación media (y mas), la prob. de obtener menos que educación media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Región VII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42%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Región VII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50%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Resto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53% 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Gill Sans MT"/>
              </a:rPr>
              <a:t>En resumen: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Gill Sans MT"/>
              </a:rPr>
              <a:t>Si la movilidad fuera un fenómeno puramente aleatorio, uno quisiera vivir en la sexta región: 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ill Sans MT"/>
              </a:rPr>
              <a:t>Para hijos de  padres con poca educación, la probabilidad de superar el nivel educacional de los padres es mas alto que en otras region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ill Sans MT"/>
              </a:rPr>
              <a:t>Para hijos de padres con alto nivel educacional, la probabilidad de lograr un nivel de educación inferior al de los padres es menor que en otras regiones</a:t>
            </a: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.</a:t>
            </a: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Para finalizar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Hemos hecho una primera aproximación al estudio de dos problemas importantes que se pueden estudiar con esta encuesta: la migración y la movilidad social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sta es solo una muestra del tipo de preguntas que se pueden abordar, y que incluyen temas que abarcan desde la estructura de ingresos de las familias hasta los patrones de consumo cultural y las preferencias políticas de los entrevistados.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dde9ec"/>
                </a:solidFill>
                <a:latin typeface="Bookman Old Style"/>
              </a:rPr>
              <a:t>Identificación territorial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Los entrevistados responden a la siguiente pregunta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Si usted pudiera elegir la región donde vivir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1.- Viviría en esta región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2.- Se iría a vivir a otra región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i="1" lang="es-CL" sz="2600" spc="-1" strike="noStrike">
                <a:solidFill>
                  <a:srgbClr val="ffffff"/>
                </a:solidFill>
                <a:latin typeface="Gill Sans MT"/>
              </a:rPr>
              <a:t>3.- se iría a vivir a Santiago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186920" y="5300280"/>
            <a:ext cx="678204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481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dde9ec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¿Por que nos interesa esta pregunta?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Un índice de lo deseable que es vivir en la región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Podemos tratar de entender que factores influyen en las ganas de irse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Algunos de estos factores pueden ser influenciados a través de (buenas) políticas públicas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12 Marcador de texto"/>
          <p:cNvGraphicFramePr/>
          <p:nvPr/>
        </p:nvGraphicFramePr>
        <p:xfrm>
          <a:off x="1514520" y="1743120"/>
          <a:ext cx="6027840" cy="39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12 Marcador de texto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743120"/>
                    <a:ext cx="602784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¿Como entender estas observaciones?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Factores individuales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status de empleo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ducación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dad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Expectativas sobre el futuro de la región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¿Cómo entender estas observaciones?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Bienes públicos: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Calidad de las instituciones políticas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Calidad de la salud pública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ill Sans MT"/>
              </a:rPr>
              <a:t>Calidad de la educación pública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19:30Z</dcterms:created>
  <dc:creator>E. Barozet</dc:creator>
  <dc:description/>
  <dc:language>en-US</dc:language>
  <cp:lastModifiedBy>lortiz</cp:lastModifiedBy>
  <dcterms:modified xsi:type="dcterms:W3CDTF">2009-11-23T20:18:12Z</dcterms:modified>
  <cp:revision>70</cp:revision>
  <dc:subject/>
  <dc:title>La adscripción territorial de los chilenos y las chilenas:  Una mirada desde la estructura de oportunidades  Seminario Nuevas tendencias de la (des)igualdad social: Desafíos para Chile y América Latina  09/09/2009</dc:title>
</cp:coreProperties>
</file>